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FF0-A8EF-4CF9-BE70-15C6A03F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5FD-5B58-49D3-B286-0755D05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32A-0CC9-4A54-A42A-FCADD751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002-1F5E-4EB5-87CD-C8FA72C6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7E7-53E3-488E-984B-2DFBFBCD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6B7-67DE-4C4F-817A-45E464E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E65-B25C-4386-A9E5-940D2FF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815-6BF2-4A1A-9BF9-F01A52F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5C1-2519-4C0A-A565-B28F157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CF7-81F5-4F96-A43B-21588BB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303-8E78-4242-892D-439444B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5F5-0FD5-4669-ADBF-9B3168F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AA69-2794-4666-9C7C-FC8417FCE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ather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5770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neig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à Liè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beau à Saint M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pleut à Perig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froid à Bl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gèle à S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mauvais à Beau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chaud à P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u vent à 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u soleil à St. Ger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es nuages à Montr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e l’orage à Paris p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t moi, je vais à 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203640" cy="518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2:02:37Z</dcterms:created>
  <dc:creator>User</dc:creator>
  <dc:description/>
  <dc:language>en-US</dc:language>
  <cp:lastModifiedBy>User</cp:lastModifiedBy>
  <dcterms:modified xsi:type="dcterms:W3CDTF">2004-06-21T13:22:00Z</dcterms:modified>
  <cp:revision>6</cp:revision>
  <dc:subject/>
  <dc:title>Weather rap</dc:title>
</cp:coreProperties>
</file>